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4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f9d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50760">
            <a:solidFill>
              <a:srgbClr val="f9d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e3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f9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22572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4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22860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</a:t>
            </a:r>
            <a:r>
              <a:rPr b="0" lang="en-US" sz="1800" spc="-1" strike="noStrike" baseline="30000">
                <a:solidFill>
                  <a:srgbClr val="00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Lecture Slides for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Essential Biology, Second Edition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amp;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 Essential Biology with 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4367520" y="563868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, Jane Reece, and Eric Si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>
            <a:off x="235800" y="6095880"/>
            <a:ext cx="44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Presentation prepared by Chris C. Ro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7772400" cy="784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1" lang="en-US" sz="5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160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66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66760" y="685800"/>
            <a:ext cx="857232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226e5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ulticellular organisms can divide into pieces that then grow into new individ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696080" y="62024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8.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_x001e_08-02B-Asexual&amp;Regenerat-L.jpg                                 0000175A_x000e_ImageLib_01-10                 BAF86A6B:"/>
          <p:cNvPicPr/>
          <p:nvPr/>
        </p:nvPicPr>
        <p:blipFill>
          <a:blip r:embed="rId1"/>
          <a:srcRect l="10702" t="21138" r="29753" b="20158"/>
          <a:stretch/>
        </p:blipFill>
        <p:spPr>
          <a:xfrm>
            <a:off x="1706400" y="2117880"/>
            <a:ext cx="5919840" cy="38862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1642320" y="6105600"/>
            <a:ext cx="1284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Sea 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66760" y="685800"/>
            <a:ext cx="85723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3399"/>
                </a:solidFill>
                <a:uFillTx/>
                <a:latin typeface="Times New Roman"/>
              </a:rPr>
              <a:t>Sexual reprodu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36600" y="1558800"/>
            <a:ext cx="857232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226e5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Meiosis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process by which organisms make cells with half the amount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226e5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perm and Egg (sex cells or game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226e5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ertilization: combining an egg and a sperm to make a zyg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view Quiz</a:t>
            </a: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n do cells normally do cell division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’s the difference between Mitosis and Meiosi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a gamet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does meiosis produc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it called when an egg and sperm combine to make a zygot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Key terms:  Mitosis, Asexual Reproduction, Sexual Reproduction, Meiosis, Gamete, Daughter Ce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ssential Question and State Standard</a:t>
            </a: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dobe Garamond"/>
              </a:rPr>
              <a:t>State Standard Genetics 2 Intr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226e5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ell Division.  There are two types that all living things use. You should understand the difference betw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226e5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Mitosi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asexual cell reproductio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normal cell divis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226e5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Meiosi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 formation of male or female gamete cells with half the amount of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Key terms:  Mitosis, Asexual Reproduction, Sexual Reproduction, Meiosis, Gamete, Daughter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722160"/>
            <a:ext cx="4267080" cy="24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You began life as a single cell, but there are now more cells in your body than stars in the Milky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304920" y="4191120"/>
            <a:ext cx="41907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Just in the past second, millions of your cells have divided in tw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_x0013_08-00A-Embryo-L.jpg                                            0000D54A_x000e_EB supps 20 GB                 B9DC478F:"/>
          <p:cNvPicPr/>
          <p:nvPr/>
        </p:nvPicPr>
        <p:blipFill>
          <a:blip r:embed="rId1"/>
          <a:srcRect l="0" t="2388" r="0" b="4378"/>
          <a:stretch/>
        </p:blipFill>
        <p:spPr>
          <a:xfrm>
            <a:off x="4876920" y="762120"/>
            <a:ext cx="4038480" cy="2973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_x0018_08-00B-Cytokinesis-L.jpg                                       0000D54A_x000e_EB supps 20 GB                 B9DC478F:"/>
          <p:cNvPicPr/>
          <p:nvPr/>
        </p:nvPicPr>
        <p:blipFill>
          <a:blip r:embed="rId2"/>
          <a:srcRect l="0" t="0" r="0" b="5111"/>
          <a:stretch/>
        </p:blipFill>
        <p:spPr>
          <a:xfrm>
            <a:off x="4724280" y="4233960"/>
            <a:ext cx="42166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722160"/>
            <a:ext cx="5029200" cy="24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dance of the chromosomes in a dividing cell is so precise that only one error occurs in 100,000 cell divis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04920" y="3733920"/>
            <a:ext cx="4952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ach sperm or egg produced in your reproductive organs carries one of over 8 million possible combinations of parental chromos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_x0018_08-00C-Chromosomes-L.jpg                                       0000D54A_x000e_EB supps 20 GB                 B9DC478F:"/>
          <p:cNvPicPr/>
          <p:nvPr/>
        </p:nvPicPr>
        <p:blipFill>
          <a:blip r:embed="rId1"/>
          <a:srcRect l="0" t="0" r="0" b="5606"/>
          <a:stretch/>
        </p:blipFill>
        <p:spPr>
          <a:xfrm>
            <a:off x="5486400" y="838080"/>
            <a:ext cx="3424320" cy="2408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_x0012_08-00D-Sperm-L.jpg                                             0000D54A_x000e_EB supps 20 GB                 B9DC478F:"/>
          <p:cNvPicPr/>
          <p:nvPr/>
        </p:nvPicPr>
        <p:blipFill>
          <a:blip r:embed="rId2"/>
          <a:srcRect l="0" t="0" r="0" b="5606"/>
          <a:stretch/>
        </p:blipFill>
        <p:spPr>
          <a:xfrm>
            <a:off x="5486400" y="3733920"/>
            <a:ext cx="342900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266760" y="1371600"/>
            <a:ext cx="476244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vitro fertilization (IVF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700"/>
              </a:spcAft>
              <a:buClr>
                <a:srgbClr val="226e5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perm and an egg are joined in a petri d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700"/>
              </a:spcAft>
              <a:buClr>
                <a:srgbClr val="226e5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mbryo is implanted into the mother’s ute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700"/>
              </a:spcAft>
              <a:buClr>
                <a:srgbClr val="226e5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F is one of many reproductive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696080" y="6172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_x0017_08-01-8CellEmbryo-L.jpg                                        0000175A_x000e_ImageLib_01-10                 BAF86A6B:"/>
          <p:cNvPicPr/>
          <p:nvPr/>
        </p:nvPicPr>
        <p:blipFill>
          <a:blip r:embed="rId1"/>
          <a:srcRect l="131" t="1002" r="7954" b="4998"/>
          <a:stretch/>
        </p:blipFill>
        <p:spPr>
          <a:xfrm>
            <a:off x="5268960" y="2087640"/>
            <a:ext cx="35812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28600" y="533520"/>
            <a:ext cx="86868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304920" y="1066680"/>
            <a:ext cx="8534160" cy="0"/>
          </a:xfrm>
          <a:prstGeom prst="line">
            <a:avLst/>
          </a:prstGeom>
          <a:ln w="50760">
            <a:solidFill>
              <a:srgbClr val="f9d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66760" y="1143000"/>
            <a:ext cx="864864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rodu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WHAT CELL REPRODUCTION ACCOMPLISHES</a:t>
            </a: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266760" y="1905120"/>
            <a:ext cx="86486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226e5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birth of new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n do cells need to divide and reprodu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66760" y="685800"/>
            <a:ext cx="85723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3399"/>
                </a:solidFill>
                <a:uFillTx/>
                <a:latin typeface="Times New Roman"/>
              </a:rPr>
              <a:t>Cell divis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is needed fo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66760" y="1447920"/>
            <a:ext cx="857232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226e5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placement of lost or damage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226e5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ell reproduction and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226e5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duces cells with identical DNA as orig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What needs to happen before a cell can divid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66760" y="685800"/>
            <a:ext cx="857232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Before a parent cell divides, it duplicates its chromosom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226e5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n splits into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daughter” cell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 genetically identical to parent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226e5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46 chromosomes --&gt; 92 --&gt;  2 new cells each with 4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5031a"/>
                </a:solidFill>
                <a:latin typeface="Times New Roman"/>
              </a:rPr>
              <a:t>Passing On the Genes from Cell to Cell</a:t>
            </a: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66760" y="685800"/>
            <a:ext cx="857232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226e5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imes New Roman"/>
              </a:rPr>
              <a:t>sexual reprodu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single celled organisms use mitosis to produce two new cells with same DNA as orig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5031a"/>
                </a:solidFill>
                <a:latin typeface="Times New Roman"/>
              </a:rPr>
              <a:t>The Reproduction of Organisms</a:t>
            </a: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7696080" y="62024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8.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_x001e_08-02A-Asexual&amp;Regenerat-L.jpg                                 0000175A_x000e_ImageLib_01-10                 BAF86A6B:"/>
          <p:cNvPicPr/>
          <p:nvPr/>
        </p:nvPicPr>
        <p:blipFill>
          <a:blip r:embed="rId1"/>
          <a:srcRect l="1225" t="1080" r="11916" b="5075"/>
          <a:stretch/>
        </p:blipFill>
        <p:spPr>
          <a:xfrm>
            <a:off x="1892160" y="2052720"/>
            <a:ext cx="5600880" cy="40510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1769400" y="6168960"/>
            <a:ext cx="1282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Amo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30T00:58:57Z</dcterms:created>
  <dc:creator>karlm</dc:creator>
  <dc:description/>
  <dc:language>en-US</dc:language>
  <cp:lastModifiedBy>Lyn Clarkson</cp:lastModifiedBy>
  <cp:lastPrinted>2002-11-28T14:12:51Z</cp:lastPrinted>
  <dcterms:modified xsi:type="dcterms:W3CDTF">2008-10-28T02:40:39Z</dcterms:modified>
  <cp:revision>389</cp:revision>
  <dc:subject/>
  <dc:title>PowerPoint Presentation</dc:title>
</cp:coreProperties>
</file>